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BD9-1907-4040-A01B-5090D87F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937-4DE7-438E-9968-D211121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DC815-8C1D-42C6-94B7-EB16B5B5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1C076-410E-406D-8D6F-71DA688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D3AB2-D785-42D8-A74B-EDDC96AB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27ED-9A1F-4C28-91E0-D9887674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74EA2-879F-4DDC-A577-028EFAB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51316-FB77-4B83-965A-334E22B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BBB7A-29B4-464A-9B5F-23F043D5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3D0F4-FDED-417B-898F-7A6D5493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7C03B-31C3-4BE7-B9E3-F86972A2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A2A17-E166-445A-BE5A-3840EB86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043-3F92-4641-B541-C13F279F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31714-E2D2-4C37-8F8A-61F40D7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B692F-3EBE-41D6-8A76-3A3AF445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7A46D-C30D-4C98-AB0F-1FB3291E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A4C19-2743-4502-B691-71A8205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AB121-A705-4279-9FEE-F7666E7B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260CE-21F7-44A5-9623-8C64771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0CA1E-EA53-42DF-A66F-9EF1263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DBC6C-F6F4-41F8-B94A-4F2D90CD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B85D2-C0D0-4F1A-AD62-79F0D9D7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36D17-D790-45D4-BD47-9C09F7E6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A80-D82A-476F-A580-342E57A7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047E2-57F1-491B-81EB-E82D9B1D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7DB4B-74B3-4798-AB5B-C3555D5A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8C79-BF6C-4A55-AEBB-BF8A8235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98991-3AB8-43A6-8FB9-62125641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FB289-6F49-4218-B615-780CBFA4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47D33-BF14-4D4B-98CD-A0C67C82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B05F3-1D95-4899-BE04-C64340C1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E8DE3-7DDD-4937-8E7B-046B4749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7693A-62EB-4BBE-B6EA-734D47C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682D6-5FCB-4D42-A0F1-60F8F21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B93F-5894-45FE-BACA-E439A8CA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8D91-0F9A-4B79-944F-A5F74C76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B1781-F15D-485B-9C46-B47801F0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C9AF-FB75-46BD-8848-90960EA5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DB5F9-5AA0-4008-A056-2D9F3E7B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2624E-2B0D-4879-AE55-3A66A35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DF92D-A984-419C-987C-B970D933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AC8E3-C97D-491E-ADA8-BE0E8F9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795F-F8C1-42F0-B88F-AE299A7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2D491-A590-4B23-944E-7081060E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A0F57-67EF-44F8-99A3-1272677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66DA-1DCC-4035-B3F4-ED908023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C7224-97A2-45FC-AF69-D23F5092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3638A-7AEF-4902-B032-CE328D48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F6306-9148-442D-8444-D2051E7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945F-9963-4EB6-912E-7BF74780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97E1A-2C7F-4E1B-85F0-E97F88E9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AC3AE-C041-4245-A53D-BDAECF3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E8B83-D9EB-4815-81A6-E4036ECF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CAE25-80C5-4639-9E3A-4DD6254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71102-EBD2-46AA-BF33-DD50506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C40F2-9A59-495C-B87D-3689B08F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B8EE-B33B-4ED0-95E7-8278F35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EEC8C-F8E5-4758-8AEA-4E5A134A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46009-50BC-40A0-8BF6-8A1D0E9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78B67-789D-4972-8EF9-73DE6D5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05ACE-52CA-4F1C-83D1-9126B27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650E3-5FD7-4168-A789-4731FD14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A8DC1-9B8E-46EC-9969-8A4013C8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166EB-3018-477B-8FAC-14F6602E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ECCA4-1015-48E0-9DFB-3854F092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E0CAE-DAEF-4A1F-9873-011C21A9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A8776-34DC-438C-A425-1AF1074F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597E-B31C-46EA-A85F-14AFEA38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8EE6B-4BBD-4205-A958-C82A923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D2007-A357-4E60-9826-06772B9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7FD70-3930-496F-B55C-ABF637F7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60B2E-89C5-49D5-9DC7-4DBE28D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646F8-B9A9-4BDD-8C00-7B27FBC8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2265F-332F-4443-8876-A59E6E0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BF06C-7C86-4DB8-A5C2-EE9CEE06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8837D-63E8-49FC-950F-207C24C5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2C007-AF3E-4275-A47D-47AC99E8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3CE5E-3CAF-4A04-B613-C8AD9D8D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2F2D-6EB1-4567-9725-6945235D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5E94C-DF63-4ABE-9B94-A79888C9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57A25-B1A8-4E4A-BC32-3A7CD707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25786-802E-4362-85C5-E41DDFBB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1FC26-5FA3-479A-8836-CAECAD06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D3223-E24D-4638-B9FA-97DDD5A1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AF222-3E5A-40BC-8DA2-C760B81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C2D64-8213-4610-A42A-3ACE4FBB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3B094-0F9C-4F28-A9BF-5398F91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66135-C1A9-4938-B771-41137B8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3214D-B8F0-4E05-8CB5-596776A6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6B4C-6C1E-4DF1-A38B-129A5104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BCE54-49FB-4828-8D06-15735480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3310C-81B8-4EBA-83CD-CE790244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52365-52F8-4700-8C10-F99BCC6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884CC-3828-4006-9B46-4CA473AE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7007D-91EA-4914-B085-AC74558F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0729C-5C98-4C34-A1FF-3C05B80A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37AD3-656A-4435-9BC7-50BB31EA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298C5-4398-4F85-8A2C-E2AB70C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43523-CD79-430B-B3BD-61423C55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C14C4-ECE6-4FBD-9E6E-EA02106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1417-FCF4-4661-B630-57DC9C4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F40BE-24D1-4899-B993-2E67B414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6C420-9259-4A91-9E40-354F41BB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B7EDC-44E8-4D33-900F-FD63B21F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AAFBD-D396-4F24-9D6E-7DF53B00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5CF10-8C9A-407B-A4E7-19B7508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6C41F-8583-48ED-A321-B8A0855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52B08-8DB3-474C-9F86-8B8CA8C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8CB30-D256-464A-9208-627627C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054F3-8481-4F9B-A37B-139F738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261F6-2FE9-44FB-8716-C27B8E1F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A4C-BF04-47DC-BB04-1F22DFC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074A-58AB-4AE3-A650-FF1FB42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C6471-9389-401B-BBC2-31196AF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6B875-A18E-4279-9371-690CE8D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6A5F9-B4F3-40C8-BCEC-8F608CA1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EE7F0-A1EC-49A1-82FC-3D897F56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F4C2AB-59B4-450D-AD86-5288AD5B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6D838-FA9A-4689-BD83-4D50B5C3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A27B8-D402-4464-9391-B32F5C72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9226F-D60C-4C80-A93B-693B31DB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EB836-4D9D-4B23-8F7C-3195503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88598B-A097-4BCE-A6B4-528A454E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2B1-4BD4-4FF4-948D-FCE0A004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0099F-83EB-46FD-9127-A1B5E3C8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4EC04-5C97-471D-8CCD-873C04E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12796-DA6A-4856-944A-9ADB3DA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1E781-A797-471B-BBF0-4115DA5C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BDC90-7FB2-4959-B79C-0A56D493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EC79D-D331-49D5-A1CE-D67532F4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6B747-13B9-4D0E-8E5B-FA876EA4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C5E66-1A1E-47E6-A94E-9E5AED8C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00EFB-083B-423C-A501-A782D442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E7021-1201-4CE7-8366-04ACB1B5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1BF2-04BF-42ED-B8DB-8743596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7BD3E-A4D9-4078-B761-54CA12D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50722-7C4C-4B09-889C-D1B65BD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74428-5415-4A3E-8921-AC614A0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CEA38-8095-4928-BD1F-3D0AFD4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07A59-1024-48F2-814A-4BD2DABD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DC00D-AD05-44A3-A25D-FCAC567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9A697-A7CD-468B-A419-41EC4CD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ECFE0-AE15-4181-8D38-B2658A1A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E4D3E-0B0A-4F6F-AA5E-E7BACB68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4F8DE-7DF5-487D-ADB4-AFC13CAA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9720-6DE7-4826-B513-5CBC3955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AC2E6-3BE4-4666-A0B4-A17CF2C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43300B-E317-48B6-B55F-74B5167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C0CDE-0235-4381-9C44-CBABA954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51C7C-33FB-4276-93AE-4C54132A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0E82B0-1932-49EA-BA1D-5762FBAE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9DF29-DA54-4559-84F5-3640E95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515E4-29C3-41A9-A3A0-851FAF8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D6B86-8AA5-420E-82A6-CFE6B69A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CE08A-14B6-4816-A111-5A1AE74D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7C8907-C8FA-45E7-B770-BD78DE06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04CA-957E-4B31-BB8A-EFF3C8D5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2DF8B-D785-4819-A170-385F80CA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E30BA-CACD-4266-8AB9-2AB38035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99616-CF3C-4CF9-846A-FED838D6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979B6-0E2B-454D-BA1C-30764FF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7882D-8AAF-431F-ABE0-1C08778F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1172E-30E6-4ED9-95E7-5DF5041F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423D4A-B015-4E68-BC5F-CFE14704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FC054-D79B-449F-B0D7-B2E9DD0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AF7CE-5529-41DA-BFE0-5B09DD0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C0C09-6CA6-4BE4-BCC0-40D28A8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4F55-CAD9-44A7-8903-C52B459A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906A0-81F6-4B21-A9D0-FDC71412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12D2C-B8A0-40E3-9CF3-7316AB71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7BB8B-FEAC-4C59-B7D3-19BA073A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9B20-4CFF-4806-9CC6-9BCE68C1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0300-7FD2-421F-B06A-4FD95DC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1FC1-F785-4B32-B548-07D005A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87EA-71D7-486F-A524-AC908FE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307-3C9F-42BC-8DF6-7D7A43E2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1592-8D65-454E-A7AC-FF95ECB6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F598-DE31-48FB-A309-70BDFFF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CCE8-FB7D-4E51-ACFE-867DB09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5E49-9B3F-4FEC-AEBE-8A2EF9B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4E5B-CAC5-464A-A714-FB8C4FF0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87A6-E810-432E-B6D1-DF4E31D9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7A8D-245D-415D-8885-55DF3591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79FA-678F-4DDC-8638-A1BAF41F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3124-EE5C-4A91-B050-D280979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1DF6-0A52-4649-BBA8-FE9A5E8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3A2-9307-47BA-9C0D-327C2203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08687-C679-4241-8D88-C4A0E11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DCEC-91AF-4600-B697-6932EE4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561D-8ACE-4980-9022-D18B33B6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DE57-0AD1-4873-8901-B82607E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CB42-19BA-481C-BACC-099D961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AC7C-1D8F-409A-838E-05FCFB4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C372-95B4-42F6-BDCD-26677C9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E0D9-6887-4C08-A00E-FE3AFDBF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14A8-B8B1-4133-A81B-D4D08EEB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B4E6-7191-4F9A-AE11-47FBA5B8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8A7-736F-408D-95B5-72857FF8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285C5-3093-457F-895C-6157A06A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56FC-6271-4AD9-AADB-36BD3671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119F6-3C9A-46A0-AB1A-3DE5073D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23A0-C820-472E-8765-35F537FD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ACA54-2B87-4BF7-9CBC-7B73C9E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B696-98D7-4401-8BF0-02F4169B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C1B86-C84C-4182-9943-A2C2AE7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CA12-2EB0-4FE9-B862-893BA26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5EAC-4C28-409F-8991-992242F1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BA85-AACA-4D2F-B087-6B303D87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61F-0A73-4E76-978C-5EFDDDBF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420D-3D7C-420C-B3E0-9C0AE93E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20D6-1F50-49C8-8F72-02517C2E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499A-7178-4D64-BAFF-21E79CDE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FD89-4735-4DA7-8473-87E1AD7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48BCC-3FFE-4F08-9023-E1C6736B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1AAE-B01E-44CD-905A-26B58FF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B9DE-0228-4811-8826-4A5C7DB1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A680-5ED2-40BA-974F-9AB9B7E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CAF5B-FB64-4F48-97D6-EF1D084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A0AF-24CC-4383-87E5-0E29C12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597-557F-4AE9-A532-C14FD29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A1D5F-AABE-4F33-9B4A-2517798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6548-A5D7-4BC2-8CD1-DFAC4E14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7DE8-50AB-4B44-9AB9-7B98A780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995C-CCA8-42ED-BC2F-7A33B396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29E84-7B23-42E0-BE69-564B5652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94DE9-DC24-4DF5-B87E-DBFFD56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32E8-0C5B-4FEF-A09D-224D3E6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D91AF-3450-451F-A1EB-F256D6B9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4255B-5929-40B3-8510-29D68673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AB5F-922C-43DB-92C1-BC4ACB44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4AB-7608-47AD-A571-943FD67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280F-EA80-41A0-9A1B-1D8DD8B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2224-9D6C-4199-8A42-1A88E77B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18A90-C0D6-4F98-9848-04CF571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4EAB-D910-4E07-80D6-EDE39DBC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6860-2867-4572-A93C-DE7F0041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52EFA-0A0F-4F94-9702-C98D8958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2E99E-0A95-4A7B-9A87-FC1F11DF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2D2D-AD98-4804-B9E5-1D59BBCB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246CF-FFAC-48F5-8D01-DA8816A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4AD4-41BB-465C-B9B5-0F92E66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354-CB18-439B-AF42-C890F81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79140-4D97-43DC-AB28-37A765EE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A7B7F-FB14-4573-ABED-79EFF58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E3A5B-8D37-4E25-90C4-27ECA58B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049B8-E1A5-4F6F-82FE-3B725A3F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4081-7687-436C-A8E2-658BECBC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ACB2-EF98-46BA-96A3-0A61F7A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F25A-8421-427A-BC36-BA7C3C67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2413F-EEA3-401D-B8AA-D88AFDE2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19608-F74E-47B8-8C49-4223939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ED530-F845-4E76-841B-778E1934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4CAE-0470-40EF-8927-969BDFCB4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3B0-2A01-4C31-AEEB-83A8FA63AF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0623-7AD0-4CBF-B515-36058D4D4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403A-3BE3-46B2-894B-51FA6DFDE4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E61-BA3C-475C-BE56-E7DC02CC5D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BC78-BC43-4006-BDDB-39B8B186A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D80F-FDF8-4458-BC82-A8CE24E788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FEB-483F-4075-8579-9001A5C20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49CF-CB04-4935-86AC-853299D13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2E2C-2929-420C-9C00-976BDC5AFB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E13-C9F1-4AD3-A7D3-E58E9838B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9DB6-7A3F-42D0-8C3E-B47C7F72F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54B-9D3C-4CC2-B6C3-B4156453C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710-0A1F-480B-8728-B63763F94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5DE6-49F7-4DD7-A830-81C89A868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8FC6-48F1-4F57-8664-B4C2177B2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44CB-49DE-43A8-B9CD-ABB5062F1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03B-110D-4714-8191-87BAA4F75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D0C-778D-4915-9F07-5742109D0A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2051-F811-4CC6-8EA8-F58AC40B8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F37B-B5B5-4FED-8C17-D23E10683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BC4C-ED66-4661-9250-1D27E61AB3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116A-41BE-44FD-B50F-90B1192ED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4918-1C48-4DEE-9245-BFECF3AC3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F05-1006-4B8C-B501-006FFAA2F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F37-EC3E-4F26-AB73-EC3CF7907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7FF-64EC-4F92-A71D-1E131FE73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8660-D8C5-44E4-80D6-163C104BED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0F2-863A-4F1D-9429-DD6F77FD3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46B-EB16-479E-8CD8-714D1D3CA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C346-3FF2-455E-8036-A1B006A7E0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2CDB-0441-43D0-B0BA-3357BF4C9C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C03-5AE9-446B-902D-2DC261BC8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023-31AB-4072-AC0D-AA644D1AA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E87A-C252-480B-9137-7BABDE7DA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41CC-1A0C-4192-A425-CD21AF05C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6F95-A22C-4474-8191-E301CDE54C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F81B-53D1-42FB-82EF-9CA9AAF49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651B-F07F-42F7-ABBA-DB587E46BD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26C-BE71-4E89-BFD8-14EA2A6CD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71760" y="1773360"/>
            <a:ext cx="2400480" cy="752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876240" y="3273480"/>
            <a:ext cx="7391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262080" y="1595520"/>
            <a:ext cx="8619840" cy="3666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348000" y="394812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916360" y="4710240"/>
            <a:ext cx="446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552600" y="1266840"/>
            <a:ext cx="8038800" cy="4324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3146400" y="204624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3132000" y="419256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2411280" y="4956120"/>
            <a:ext cx="48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1442880" y="814320"/>
            <a:ext cx="6258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38200" y="879480"/>
            <a:ext cx="8067600" cy="5286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2484360" y="40482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556000" y="48546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2556000" y="560376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552600" y="2219400"/>
            <a:ext cx="8038800" cy="2419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7524720" y="2421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211640" y="3789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7352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8229600" cy="3867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796000" y="442260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468360" y="200160"/>
            <a:ext cx="7924680" cy="6457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194328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148360" y="5762520"/>
            <a:ext cx="194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5300" descr=""/>
          <p:cNvPicPr/>
          <p:nvPr/>
        </p:nvPicPr>
        <p:blipFill>
          <a:blip r:embed="rId1"/>
          <a:stretch/>
        </p:blipFill>
        <p:spPr>
          <a:xfrm>
            <a:off x="581040" y="852480"/>
            <a:ext cx="7981920" cy="5153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132000" y="393372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3160800" y="541656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48160" cy="2743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419640" y="279576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492360" y="427824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390600" y="1074600"/>
            <a:ext cx="8362800" cy="56674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2232" descr=""/>
          <p:cNvPicPr/>
          <p:nvPr/>
        </p:nvPicPr>
        <p:blipFill>
          <a:blip r:embed="rId2"/>
          <a:stretch/>
        </p:blipFill>
        <p:spPr>
          <a:xfrm>
            <a:off x="324000" y="44280"/>
            <a:ext cx="3671640" cy="1036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12800" y="28591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12800" y="55738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172360" y="55753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2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